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13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A61-274A-4342-9107-8F8CBDDC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12F-EA70-4D25-9C9B-77FF655B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B69-BEBE-4AC7-8992-D08AD45E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2FC-58F9-452F-891D-05B38E8A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F761-C84B-444E-A67B-8190E8E7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AB73-EDBD-4754-B556-73C52866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503E-5E9F-403A-9712-F8FE80C3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97EB-C1D9-4955-B77E-E7CEA73B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E3C2-48BA-40D8-B449-304DDA82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9CAC-44B3-4FD8-94D2-C549F05C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2912-4CBB-48EC-85CC-000E150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80C-A39F-41FA-A7D5-710C03D5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E788-58F0-4EBE-95F9-C2F7873C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31EA-EC98-40FA-9131-CC92A9C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A809-CAEB-4E5C-88C8-1E488DC9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F28D-C033-45C2-9D50-973EAC7A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C14B-DB79-4D9C-B441-C17499E5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85CF-3DC7-49DD-9ACF-9EB8E7AC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F7C6-8453-4E0A-A066-A2F61773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BA57-C933-448F-93DA-52EA636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3158-90D3-44FB-8F4E-8B224B76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0D04-C566-4700-BBEA-20E4A7FB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10B-0DA1-4D5A-9676-5867C42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B672-64ED-4C1F-8A5B-E498C8D2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EA09-3D4F-4D9C-925F-D2F52F12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F65B-CC52-4281-B755-0EFAFD14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9FAF-4503-40C0-826F-53D6161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BC957-8BB1-4721-8BA1-65AEA5F6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307B-4B9C-40B6-AD1A-6F51976B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9D17-FF33-4C33-9FF5-350AFF0C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ACEC-4022-4567-A2D8-EFA1DA1D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395B-CFA7-4359-8B77-2CD1248F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46F80-F871-4A10-8789-9A703E18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329-72D8-412A-AB6F-8BBF6172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352D-7746-4FE4-8336-42810210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C52CC-653A-4F92-9924-852D61B7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52D0-C197-49C5-A4AF-48498F7C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E721-F77D-4BB7-8851-55DB80A4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D516-9E70-4604-998A-0585ADAD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D66D-9ECE-4FC8-AF1A-FC86A7B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162CD-8F44-4C14-9732-4D6CEE8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D0D4-587A-4CD9-B249-CEB4A25C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B8C5-27EB-42E4-918F-AB276661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762B7-E836-4732-94C8-C3CF9411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C05-7AAA-44CC-A2CE-A1509229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FA6A-8892-4E1C-AD52-3AD70695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1AB4C-25D0-4BFE-91D7-2C52419B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2FB38-1A77-4089-888F-28CAFD3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19BB6-4CA9-4C57-AE9E-3C8AB2DB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CD832-D957-42F0-9D71-0477036F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9B6D-3504-4E49-90E2-67645B6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08B9C-9454-4BAD-A705-19AAFE7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385D-40BD-44DC-9BE5-2207CF80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D41F-E142-488F-B99E-00EBEB7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EB5BF-C9B1-47EA-93B2-F4A523D5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F5D-8A73-41B7-A76B-AA45063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03B2-31E9-46EC-B713-A63CFD26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FD7-6281-4797-8687-03819CE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912-CCEB-46C2-8972-4AE3536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E25-3637-4E76-BBBE-AC549DCE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מלבן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מלבן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1711-E3FF-481F-9092-75CD3DA225DC}" type="slidenum">
              <a:rPr b="0" lang="he-I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מלבן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מלבן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מחבר ישר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751B-4476-4698-80C2-376A4192DEFF}" type="slidenum">
              <a:rPr b="0" lang="he-I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מלבן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מלבן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9C17-071F-43D8-8067-440D63411BC0}" type="slidenum">
              <a:rPr b="0" lang="he-I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מלבן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מלבן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50C5-4D3F-49DE-A368-3088FDC2418D}" type="slidenum">
              <a:rPr b="0" lang="he-I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מלבן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מלבן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13D2-0D2A-4071-928E-EA6612226AC3}" type="slidenum">
              <a:rPr b="0" lang="he-I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F:\אנטומיה\micromuscle\muscles\5.jpg"/>
          <p:cNvPicPr/>
          <p:nvPr/>
        </p:nvPicPr>
        <p:blipFill>
          <a:blip r:embed="rId1"/>
          <a:stretch/>
        </p:blipFill>
        <p:spPr>
          <a:xfrm>
            <a:off x="406440" y="304920"/>
            <a:ext cx="75945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hand[1]"/>
          <p:cNvPicPr/>
          <p:nvPr/>
        </p:nvPicPr>
        <p:blipFill>
          <a:blip r:embed="rId1"/>
          <a:stretch/>
        </p:blipFill>
        <p:spPr>
          <a:xfrm>
            <a:off x="838080" y="630360"/>
            <a:ext cx="4842000" cy="6075360"/>
          </a:xfrm>
          <a:prstGeom prst="rect">
            <a:avLst/>
          </a:prstGeom>
          <a:ln w="0">
            <a:noFill/>
          </a:ln>
        </p:spPr>
      </p:pic>
      <p:pic>
        <p:nvPicPr>
          <p:cNvPr id="244" name="מלבן 4" descr=""/>
          <p:cNvPicPr/>
          <p:nvPr/>
        </p:nvPicPr>
        <p:blipFill>
          <a:blip r:embed="rId2"/>
          <a:stretch/>
        </p:blipFill>
        <p:spPr>
          <a:xfrm>
            <a:off x="4359240" y="208080"/>
            <a:ext cx="394344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pelvic[1]"/>
          <p:cNvPicPr/>
          <p:nvPr/>
        </p:nvPicPr>
        <p:blipFill>
          <a:blip r:embed="rId1"/>
          <a:stretch/>
        </p:blipFill>
        <p:spPr>
          <a:xfrm>
            <a:off x="228600" y="3048120"/>
            <a:ext cx="2970360" cy="3504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oxal[1]"/>
          <p:cNvPicPr/>
          <p:nvPr/>
        </p:nvPicPr>
        <p:blipFill>
          <a:blip r:embed="rId2"/>
          <a:stretch/>
        </p:blipFill>
        <p:spPr>
          <a:xfrm>
            <a:off x="3124080" y="806400"/>
            <a:ext cx="5035680" cy="3537000"/>
          </a:xfrm>
          <a:prstGeom prst="rect">
            <a:avLst/>
          </a:prstGeom>
          <a:ln w="0">
            <a:noFill/>
          </a:ln>
        </p:spPr>
      </p:pic>
      <p:pic>
        <p:nvPicPr>
          <p:cNvPr id="247" name="מלבן 5" descr=""/>
          <p:cNvPicPr/>
          <p:nvPr/>
        </p:nvPicPr>
        <p:blipFill>
          <a:blip r:embed="rId3"/>
          <a:stretch/>
        </p:blipFill>
        <p:spPr>
          <a:xfrm>
            <a:off x="-237960" y="438120"/>
            <a:ext cx="3846240" cy="2762280"/>
          </a:xfrm>
          <a:prstGeom prst="rect">
            <a:avLst/>
          </a:prstGeom>
          <a:ln w="0">
            <a:noFill/>
          </a:ln>
        </p:spPr>
      </p:pic>
      <p:pic>
        <p:nvPicPr>
          <p:cNvPr id="248" name="מלבן 6" descr=""/>
          <p:cNvPicPr/>
          <p:nvPr/>
        </p:nvPicPr>
        <p:blipFill>
          <a:blip r:embed="rId4"/>
          <a:stretch/>
        </p:blipFill>
        <p:spPr>
          <a:xfrm>
            <a:off x="3432240" y="5065560"/>
            <a:ext cx="4608360" cy="1103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3886200" y="4343400"/>
            <a:ext cx="307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חצי אגן שמאל במבט לטרלי  ומ"בפנים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 flipV="1">
            <a:off x="6934320" y="3962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 flipH="1" flipV="1">
            <a:off x="4572000" y="2742840"/>
            <a:ext cx="3808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5105520" y="22096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5715000" y="2057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 flipH="1" flipV="1">
            <a:off x="5257440" y="1980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femur[1]"/>
          <p:cNvPicPr/>
          <p:nvPr/>
        </p:nvPicPr>
        <p:blipFill>
          <a:blip r:embed="rId1"/>
          <a:stretch/>
        </p:blipFill>
        <p:spPr>
          <a:xfrm>
            <a:off x="3846600" y="990720"/>
            <a:ext cx="3087720" cy="5790960"/>
          </a:xfrm>
          <a:prstGeom prst="rect">
            <a:avLst/>
          </a:prstGeom>
          <a:ln w="0">
            <a:noFill/>
          </a:ln>
        </p:spPr>
      </p:pic>
      <p:pic>
        <p:nvPicPr>
          <p:cNvPr id="256" name="מלבן 4" descr=""/>
          <p:cNvPicPr/>
          <p:nvPr/>
        </p:nvPicPr>
        <p:blipFill>
          <a:blip r:embed="rId2"/>
          <a:stretch/>
        </p:blipFill>
        <p:spPr>
          <a:xfrm>
            <a:off x="676440" y="360360"/>
            <a:ext cx="3298680" cy="11034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1143000" y="281952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ירך ימני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מלפני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ומאחו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733920" y="35812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3657600" y="4114800"/>
            <a:ext cx="2362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tibia_fibula[1]"/>
          <p:cNvPicPr/>
          <p:nvPr/>
        </p:nvPicPr>
        <p:blipFill>
          <a:blip r:embed="rId1"/>
          <a:stretch/>
        </p:blipFill>
        <p:spPr>
          <a:xfrm>
            <a:off x="4524480" y="838080"/>
            <a:ext cx="2638440" cy="5943600"/>
          </a:xfrm>
          <a:prstGeom prst="rect">
            <a:avLst/>
          </a:prstGeom>
          <a:ln w="0">
            <a:noFill/>
          </a:ln>
        </p:spPr>
      </p:pic>
      <p:pic>
        <p:nvPicPr>
          <p:cNvPr id="261" name="מלבן 4" descr=""/>
          <p:cNvPicPr/>
          <p:nvPr/>
        </p:nvPicPr>
        <p:blipFill>
          <a:blip r:embed="rId2"/>
          <a:stretch/>
        </p:blipFill>
        <p:spPr>
          <a:xfrm>
            <a:off x="695160" y="360360"/>
            <a:ext cx="3340440" cy="19321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609480" y="3429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מבט חזיתי אל עצמות ימי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foot[1]"/>
          <p:cNvPicPr/>
          <p:nvPr/>
        </p:nvPicPr>
        <p:blipFill>
          <a:blip r:embed="rId1"/>
          <a:stretch/>
        </p:blipFill>
        <p:spPr>
          <a:xfrm>
            <a:off x="4341960" y="685800"/>
            <a:ext cx="3506760" cy="6037200"/>
          </a:xfrm>
          <a:prstGeom prst="rect">
            <a:avLst/>
          </a:prstGeom>
          <a:ln w="0">
            <a:noFill/>
          </a:ln>
        </p:spPr>
      </p:pic>
      <p:pic>
        <p:nvPicPr>
          <p:cNvPr id="264" name="מלבן 4" descr=""/>
          <p:cNvPicPr/>
          <p:nvPr/>
        </p:nvPicPr>
        <p:blipFill>
          <a:blip r:embed="rId2"/>
          <a:stretch/>
        </p:blipFill>
        <p:spPr>
          <a:xfrm>
            <a:off x="304920" y="438120"/>
            <a:ext cx="3889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F:\אנטומיה\micromuscle\muscles\7.jpg"/>
          <p:cNvPicPr/>
          <p:nvPr/>
        </p:nvPicPr>
        <p:blipFill>
          <a:blip r:embed="rId1"/>
          <a:srcRect l="9231" t="0" r="23847" b="6667"/>
          <a:stretch/>
        </p:blipFill>
        <p:spPr>
          <a:xfrm>
            <a:off x="533520" y="0"/>
            <a:ext cx="71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skull-anatomy-picture"/>
          <p:cNvPicPr/>
          <p:nvPr/>
        </p:nvPicPr>
        <p:blipFill>
          <a:blip r:embed="rId1"/>
          <a:stretch/>
        </p:blipFill>
        <p:spPr>
          <a:xfrm>
            <a:off x="1828800" y="1403280"/>
            <a:ext cx="5105520" cy="4083120"/>
          </a:xfrm>
          <a:prstGeom prst="rect">
            <a:avLst/>
          </a:prstGeom>
          <a:ln w="0">
            <a:noFill/>
          </a:ln>
        </p:spPr>
      </p:pic>
      <p:sp>
        <p:nvSpPr>
          <p:cNvPr id="223" name="WordArt 6"/>
          <p:cNvSpPr txBox="1"/>
          <p:nvPr/>
        </p:nvSpPr>
        <p:spPr>
          <a:xfrm>
            <a:off x="3200400" y="53352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KU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costals[1]"/>
          <p:cNvPicPr/>
          <p:nvPr/>
        </p:nvPicPr>
        <p:blipFill>
          <a:blip r:embed="rId1"/>
          <a:stretch/>
        </p:blipFill>
        <p:spPr>
          <a:xfrm>
            <a:off x="1447920" y="1352520"/>
            <a:ext cx="6629400" cy="5429160"/>
          </a:xfrm>
          <a:prstGeom prst="rect">
            <a:avLst/>
          </a:prstGeom>
          <a:ln w="0">
            <a:noFill/>
          </a:ln>
        </p:spPr>
      </p:pic>
      <p:pic>
        <p:nvPicPr>
          <p:cNvPr id="225" name="מלבן 4" descr=""/>
          <p:cNvPicPr/>
          <p:nvPr/>
        </p:nvPicPr>
        <p:blipFill>
          <a:blip r:embed="rId2"/>
          <a:stretch/>
        </p:blipFill>
        <p:spPr>
          <a:xfrm>
            <a:off x="774720" y="360360"/>
            <a:ext cx="416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vertebrae[1]"/>
          <p:cNvPicPr/>
          <p:nvPr/>
        </p:nvPicPr>
        <p:blipFill>
          <a:blip r:embed="rId1"/>
          <a:stretch/>
        </p:blipFill>
        <p:spPr>
          <a:xfrm>
            <a:off x="1447920" y="1219320"/>
            <a:ext cx="3863880" cy="541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pin_3"/>
          <p:cNvPicPr/>
          <p:nvPr/>
        </p:nvPicPr>
        <p:blipFill>
          <a:blip r:embed="rId2"/>
          <a:stretch/>
        </p:blipFill>
        <p:spPr>
          <a:xfrm>
            <a:off x="5334120" y="1371600"/>
            <a:ext cx="2706480" cy="2209680"/>
          </a:xfrm>
          <a:prstGeom prst="rect">
            <a:avLst/>
          </a:prstGeom>
          <a:ln w="0">
            <a:noFill/>
          </a:ln>
        </p:spPr>
      </p:pic>
      <p:pic>
        <p:nvPicPr>
          <p:cNvPr id="228" name="מלבן 5" descr=""/>
          <p:cNvPicPr/>
          <p:nvPr/>
        </p:nvPicPr>
        <p:blipFill>
          <a:blip r:embed="rId3"/>
          <a:stretch/>
        </p:blipFill>
        <p:spPr>
          <a:xfrm>
            <a:off x="401760" y="-19080"/>
            <a:ext cx="79740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shoulder[1]"/>
          <p:cNvPicPr/>
          <p:nvPr/>
        </p:nvPicPr>
        <p:blipFill>
          <a:blip r:embed="rId1"/>
          <a:stretch/>
        </p:blipFill>
        <p:spPr>
          <a:xfrm>
            <a:off x="3298680" y="1295280"/>
            <a:ext cx="3407040" cy="5504040"/>
          </a:xfrm>
          <a:prstGeom prst="rect">
            <a:avLst/>
          </a:prstGeom>
          <a:ln w="0">
            <a:noFill/>
          </a:ln>
        </p:spPr>
      </p:pic>
      <p:pic>
        <p:nvPicPr>
          <p:cNvPr id="230" name="מלבן 4" descr=""/>
          <p:cNvPicPr/>
          <p:nvPr/>
        </p:nvPicPr>
        <p:blipFill>
          <a:blip r:embed="rId2"/>
          <a:stretch/>
        </p:blipFill>
        <p:spPr>
          <a:xfrm>
            <a:off x="1170000" y="208080"/>
            <a:ext cx="6900840" cy="11030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2362320" y="4191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מבט מלפנים אל  כתף שמא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capula[1]"/>
          <p:cNvPicPr/>
          <p:nvPr/>
        </p:nvPicPr>
        <p:blipFill>
          <a:blip r:embed="rId1"/>
          <a:stretch/>
        </p:blipFill>
        <p:spPr>
          <a:xfrm>
            <a:off x="1600200" y="1687680"/>
            <a:ext cx="6324480" cy="4865400"/>
          </a:xfrm>
          <a:prstGeom prst="rect">
            <a:avLst/>
          </a:prstGeom>
          <a:ln w="0">
            <a:noFill/>
          </a:ln>
        </p:spPr>
      </p:pic>
      <p:pic>
        <p:nvPicPr>
          <p:cNvPr id="233" name="מלבן 4" descr=""/>
          <p:cNvPicPr/>
          <p:nvPr/>
        </p:nvPicPr>
        <p:blipFill>
          <a:blip r:embed="rId2"/>
          <a:stretch/>
        </p:blipFill>
        <p:spPr>
          <a:xfrm>
            <a:off x="1163520" y="438120"/>
            <a:ext cx="4127760" cy="10987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1143000" y="533412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שכמה ימנית מאחור, מלפנים ומהצ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V="1">
            <a:off x="2133720" y="365760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V="1">
            <a:off x="4343400" y="4952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humerus[1]"/>
          <p:cNvPicPr/>
          <p:nvPr/>
        </p:nvPicPr>
        <p:blipFill>
          <a:blip r:embed="rId1"/>
          <a:stretch/>
        </p:blipFill>
        <p:spPr>
          <a:xfrm>
            <a:off x="1981080" y="1082520"/>
            <a:ext cx="4376880" cy="5775480"/>
          </a:xfrm>
          <a:prstGeom prst="rect">
            <a:avLst/>
          </a:prstGeom>
          <a:ln w="0">
            <a:noFill/>
          </a:ln>
        </p:spPr>
      </p:pic>
      <p:pic>
        <p:nvPicPr>
          <p:cNvPr id="238" name="מלבן 4" descr=""/>
          <p:cNvPicPr/>
          <p:nvPr/>
        </p:nvPicPr>
        <p:blipFill>
          <a:blip r:embed="rId2"/>
          <a:stretch/>
        </p:blipFill>
        <p:spPr>
          <a:xfrm>
            <a:off x="2468520" y="55440"/>
            <a:ext cx="4329000" cy="11034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35812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שמא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ulna_radius[1]"/>
          <p:cNvPicPr/>
          <p:nvPr/>
        </p:nvPicPr>
        <p:blipFill>
          <a:blip r:embed="rId1"/>
          <a:stretch/>
        </p:blipFill>
        <p:spPr>
          <a:xfrm>
            <a:off x="1447920" y="446040"/>
            <a:ext cx="4419360" cy="6259680"/>
          </a:xfrm>
          <a:prstGeom prst="rect">
            <a:avLst/>
          </a:prstGeom>
          <a:ln w="0">
            <a:noFill/>
          </a:ln>
        </p:spPr>
      </p:pic>
      <p:pic>
        <p:nvPicPr>
          <p:cNvPr id="241" name="מלבן 4" descr=""/>
          <p:cNvPicPr/>
          <p:nvPr/>
        </p:nvPicPr>
        <p:blipFill>
          <a:blip r:embed="rId2"/>
          <a:stretch/>
        </p:blipFill>
        <p:spPr>
          <a:xfrm>
            <a:off x="5005440" y="208080"/>
            <a:ext cx="4151160" cy="19317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4114800" y="3809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עצמות אמה ימנית מלפנ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20:47:37Z</dcterms:created>
  <dc:creator>Yuval</dc:creator>
  <dc:description/>
  <dc:language>en-US</dc:language>
  <cp:lastModifiedBy>Cassuto</cp:lastModifiedBy>
  <dcterms:modified xsi:type="dcterms:W3CDTF">2011-12-05T20:56:49Z</dcterms:modified>
  <cp:revision>13</cp:revision>
  <dc:subject/>
  <dc:title>שקופית 1</dc:title>
</cp:coreProperties>
</file>