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13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1D7-F77B-4418-9A09-8B6B77C5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940-1A43-48DD-8236-F4F6A64D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D38-301A-4B2F-BD5A-8FFACD58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780-F356-4C1D-9673-C740CE23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A300-A159-4331-8343-C0D74601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4C8-C6F6-463F-BB37-80225B0F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5CC3-A76E-4556-B748-6723C6A9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C5F0-225D-4F9F-AD0A-B7F96F9D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C4BF-11B1-40C2-AD5E-E72CF5DD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CE2B-ADBA-42F5-9443-87D9D7E1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1797-6D48-4CC0-A170-F753498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F67-CA26-45C9-8669-82DC6E5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F63E-1D6B-4E07-B860-A5EFC72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90C8-AA1E-456E-954B-A9B46E1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D623-7AAA-4B94-99A0-36DC4270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986B-17AE-40A2-868D-08C129EB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83FE-1CA1-41EC-A122-3A46370D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26A1-AFC9-48E6-8FFE-15ACAE68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CA0E-AF2B-4DF3-A289-611AF34B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7E10-C87D-471F-B010-85B87692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68DB-6629-492A-B623-0A68772D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06F6-1988-4738-A3E9-0630A7F6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A7E-9699-4EB4-AC20-9D008146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343A-A2D8-493B-8AD7-B4091DCA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89F1-CF28-4393-A07A-4F6CCCF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09A2-C532-400E-98F9-ED697F5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34DE-18AC-45FD-B476-843546C9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DC9B-1FDB-48C6-97FB-A2F1FCD1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E79F7-FE32-4736-9944-8C451943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0018-92BC-4DE3-9CE1-F9C56FD4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3FD8-BA74-4F85-BD72-DC4F22B8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147BB-85EC-4F9A-AA74-A01C4566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3BE8-C693-4A2B-A73F-06D6665B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FE5-2DFC-47CD-BB4C-6867F1B8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1DE6-B984-438D-A15D-8398729F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CB33B-0F91-4BF0-B4D1-66BE208A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301E3-5D75-4B2D-8CF8-8EED6551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19EE-79D3-4133-B781-D63599F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B743-B975-49A3-BE0C-EFF4C57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1DBF-7D65-41EF-9035-546FC472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CE725-03D9-4FCB-9393-1A25DB13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C579-2611-43E2-8903-814D3BE7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F904-CF56-4B31-AACF-78BE9D38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DCBF6-4F90-4134-AF00-23C1BB94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748-40DE-428F-A213-D28BAA7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3D5E6-8822-4F67-83DD-8FA6BBA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78E3-9976-481B-988E-DFB54112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7F42F-7FB8-48CA-A101-16EE760A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A42F-5670-4DF5-B4AA-37960701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39F99-4064-48E6-8445-1599AD06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40AD-44E0-4FCF-A246-5FE3082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B85F3-B58E-4D40-99DF-4941133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06070-4E2A-43C2-BD79-6BC79E1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9ADFC-FCFE-4506-9FA9-6162D2BA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F8EE5-46C9-48B9-B8E4-550B9220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D97-84BF-4C23-95E5-088F2F9A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090A-67EE-45C9-B41B-4F510978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91F-2A88-48DC-A005-D423847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986-F122-403E-93CB-FA3BF63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08C-7795-4BCC-B012-ADA0A20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מלבן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מלבן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CE0-F110-40C0-883A-9DD36C08680E}" type="slidenum">
              <a:rPr b="0" lang="he-I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מלבן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מלבן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מחבר ישר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FF79-E279-43A0-926E-FB894900614D}" type="slidenum">
              <a:rPr b="0" lang="he-I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מלבן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מלבן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D127-F233-496A-860B-67B5A8519E9D}" type="slidenum">
              <a:rPr b="0" lang="he-I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מלבן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מלבן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10AC-C11F-47D4-B9F0-E5E70CF2D8A8}" type="slidenum">
              <a:rPr b="0" lang="he-I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מלבן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מלבן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F45E-AFF5-4F7C-84DD-0690EFC90321}" type="slidenum">
              <a:rPr b="0" lang="he-I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F:\אנטומיה\micromuscle\muscles\5.jpg"/>
          <p:cNvPicPr/>
          <p:nvPr/>
        </p:nvPicPr>
        <p:blipFill>
          <a:blip r:embed="rId1"/>
          <a:stretch/>
        </p:blipFill>
        <p:spPr>
          <a:xfrm>
            <a:off x="406440" y="304920"/>
            <a:ext cx="75945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hand[1]"/>
          <p:cNvPicPr/>
          <p:nvPr/>
        </p:nvPicPr>
        <p:blipFill>
          <a:blip r:embed="rId1"/>
          <a:stretch/>
        </p:blipFill>
        <p:spPr>
          <a:xfrm>
            <a:off x="838080" y="630360"/>
            <a:ext cx="4842000" cy="6075360"/>
          </a:xfrm>
          <a:prstGeom prst="rect">
            <a:avLst/>
          </a:prstGeom>
          <a:ln w="0">
            <a:noFill/>
          </a:ln>
        </p:spPr>
      </p:pic>
      <p:pic>
        <p:nvPicPr>
          <p:cNvPr id="244" name="מלבן 4" descr=""/>
          <p:cNvPicPr/>
          <p:nvPr/>
        </p:nvPicPr>
        <p:blipFill>
          <a:blip r:embed="rId2"/>
          <a:stretch/>
        </p:blipFill>
        <p:spPr>
          <a:xfrm>
            <a:off x="4359240" y="208080"/>
            <a:ext cx="394344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pelvic[1]"/>
          <p:cNvPicPr/>
          <p:nvPr/>
        </p:nvPicPr>
        <p:blipFill>
          <a:blip r:embed="rId1"/>
          <a:stretch/>
        </p:blipFill>
        <p:spPr>
          <a:xfrm>
            <a:off x="228600" y="3048120"/>
            <a:ext cx="2970360" cy="3504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oxal[1]"/>
          <p:cNvPicPr/>
          <p:nvPr/>
        </p:nvPicPr>
        <p:blipFill>
          <a:blip r:embed="rId2"/>
          <a:stretch/>
        </p:blipFill>
        <p:spPr>
          <a:xfrm>
            <a:off x="3124080" y="806400"/>
            <a:ext cx="5035680" cy="3537000"/>
          </a:xfrm>
          <a:prstGeom prst="rect">
            <a:avLst/>
          </a:prstGeom>
          <a:ln w="0">
            <a:noFill/>
          </a:ln>
        </p:spPr>
      </p:pic>
      <p:pic>
        <p:nvPicPr>
          <p:cNvPr id="247" name="מלבן 5" descr=""/>
          <p:cNvPicPr/>
          <p:nvPr/>
        </p:nvPicPr>
        <p:blipFill>
          <a:blip r:embed="rId3"/>
          <a:stretch/>
        </p:blipFill>
        <p:spPr>
          <a:xfrm>
            <a:off x="-237960" y="438120"/>
            <a:ext cx="3846240" cy="2762280"/>
          </a:xfrm>
          <a:prstGeom prst="rect">
            <a:avLst/>
          </a:prstGeom>
          <a:ln w="0">
            <a:noFill/>
          </a:ln>
        </p:spPr>
      </p:pic>
      <p:pic>
        <p:nvPicPr>
          <p:cNvPr id="248" name="מלבן 6" descr=""/>
          <p:cNvPicPr/>
          <p:nvPr/>
        </p:nvPicPr>
        <p:blipFill>
          <a:blip r:embed="rId4"/>
          <a:stretch/>
        </p:blipFill>
        <p:spPr>
          <a:xfrm>
            <a:off x="3432240" y="5065560"/>
            <a:ext cx="4608360" cy="1103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3886200" y="4343400"/>
            <a:ext cx="307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חצי אגן שמאל במבט לטרלי  ומ"בפנים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 flipV="1">
            <a:off x="6934320" y="3962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 flipH="1" flipV="1">
            <a:off x="4572000" y="2742840"/>
            <a:ext cx="3808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5105520" y="22096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5715000" y="2057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 flipH="1" flipV="1">
            <a:off x="5257440" y="1980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femur[1]"/>
          <p:cNvPicPr/>
          <p:nvPr/>
        </p:nvPicPr>
        <p:blipFill>
          <a:blip r:embed="rId1"/>
          <a:stretch/>
        </p:blipFill>
        <p:spPr>
          <a:xfrm>
            <a:off x="3846600" y="990720"/>
            <a:ext cx="3087720" cy="5790960"/>
          </a:xfrm>
          <a:prstGeom prst="rect">
            <a:avLst/>
          </a:prstGeom>
          <a:ln w="0">
            <a:noFill/>
          </a:ln>
        </p:spPr>
      </p:pic>
      <p:pic>
        <p:nvPicPr>
          <p:cNvPr id="256" name="מלבן 4" descr=""/>
          <p:cNvPicPr/>
          <p:nvPr/>
        </p:nvPicPr>
        <p:blipFill>
          <a:blip r:embed="rId2"/>
          <a:stretch/>
        </p:blipFill>
        <p:spPr>
          <a:xfrm>
            <a:off x="676440" y="360360"/>
            <a:ext cx="3298680" cy="11034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1143000" y="281952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ירך ימני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מלפני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ומאחו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733920" y="35812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3657600" y="4114800"/>
            <a:ext cx="2362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tibia_fibula[1]"/>
          <p:cNvPicPr/>
          <p:nvPr/>
        </p:nvPicPr>
        <p:blipFill>
          <a:blip r:embed="rId1"/>
          <a:stretch/>
        </p:blipFill>
        <p:spPr>
          <a:xfrm>
            <a:off x="4524480" y="838080"/>
            <a:ext cx="2638440" cy="5943600"/>
          </a:xfrm>
          <a:prstGeom prst="rect">
            <a:avLst/>
          </a:prstGeom>
          <a:ln w="0">
            <a:noFill/>
          </a:ln>
        </p:spPr>
      </p:pic>
      <p:pic>
        <p:nvPicPr>
          <p:cNvPr id="261" name="מלבן 4" descr=""/>
          <p:cNvPicPr/>
          <p:nvPr/>
        </p:nvPicPr>
        <p:blipFill>
          <a:blip r:embed="rId2"/>
          <a:stretch/>
        </p:blipFill>
        <p:spPr>
          <a:xfrm>
            <a:off x="695160" y="360360"/>
            <a:ext cx="3340440" cy="19321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609480" y="3429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מבט חזיתי אל עצמות ימי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foot[1]"/>
          <p:cNvPicPr/>
          <p:nvPr/>
        </p:nvPicPr>
        <p:blipFill>
          <a:blip r:embed="rId1"/>
          <a:stretch/>
        </p:blipFill>
        <p:spPr>
          <a:xfrm>
            <a:off x="4341960" y="685800"/>
            <a:ext cx="3506760" cy="6037200"/>
          </a:xfrm>
          <a:prstGeom prst="rect">
            <a:avLst/>
          </a:prstGeom>
          <a:ln w="0">
            <a:noFill/>
          </a:ln>
        </p:spPr>
      </p:pic>
      <p:pic>
        <p:nvPicPr>
          <p:cNvPr id="264" name="מלבן 4" descr=""/>
          <p:cNvPicPr/>
          <p:nvPr/>
        </p:nvPicPr>
        <p:blipFill>
          <a:blip r:embed="rId2"/>
          <a:stretch/>
        </p:blipFill>
        <p:spPr>
          <a:xfrm>
            <a:off x="304920" y="438120"/>
            <a:ext cx="3889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F:\אנטומיה\micromuscle\muscles\7.jpg"/>
          <p:cNvPicPr/>
          <p:nvPr/>
        </p:nvPicPr>
        <p:blipFill>
          <a:blip r:embed="rId1"/>
          <a:srcRect l="9231" t="0" r="23847" b="6667"/>
          <a:stretch/>
        </p:blipFill>
        <p:spPr>
          <a:xfrm>
            <a:off x="533520" y="0"/>
            <a:ext cx="71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skull-anatomy-picture"/>
          <p:cNvPicPr/>
          <p:nvPr/>
        </p:nvPicPr>
        <p:blipFill>
          <a:blip r:embed="rId1"/>
          <a:stretch/>
        </p:blipFill>
        <p:spPr>
          <a:xfrm>
            <a:off x="1828800" y="1403280"/>
            <a:ext cx="5105520" cy="4083120"/>
          </a:xfrm>
          <a:prstGeom prst="rect">
            <a:avLst/>
          </a:prstGeom>
          <a:ln w="0">
            <a:noFill/>
          </a:ln>
        </p:spPr>
      </p:pic>
      <p:sp>
        <p:nvSpPr>
          <p:cNvPr id="223" name="WordArt 6"/>
          <p:cNvSpPr txBox="1"/>
          <p:nvPr/>
        </p:nvSpPr>
        <p:spPr>
          <a:xfrm>
            <a:off x="3200400" y="53352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KU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costals[1]"/>
          <p:cNvPicPr/>
          <p:nvPr/>
        </p:nvPicPr>
        <p:blipFill>
          <a:blip r:embed="rId1"/>
          <a:stretch/>
        </p:blipFill>
        <p:spPr>
          <a:xfrm>
            <a:off x="1447920" y="1352520"/>
            <a:ext cx="6629400" cy="5429160"/>
          </a:xfrm>
          <a:prstGeom prst="rect">
            <a:avLst/>
          </a:prstGeom>
          <a:ln w="0">
            <a:noFill/>
          </a:ln>
        </p:spPr>
      </p:pic>
      <p:pic>
        <p:nvPicPr>
          <p:cNvPr id="225" name="מלבן 4" descr=""/>
          <p:cNvPicPr/>
          <p:nvPr/>
        </p:nvPicPr>
        <p:blipFill>
          <a:blip r:embed="rId2"/>
          <a:stretch/>
        </p:blipFill>
        <p:spPr>
          <a:xfrm>
            <a:off x="774720" y="360360"/>
            <a:ext cx="416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vertebrae[1]"/>
          <p:cNvPicPr/>
          <p:nvPr/>
        </p:nvPicPr>
        <p:blipFill>
          <a:blip r:embed="rId1"/>
          <a:stretch/>
        </p:blipFill>
        <p:spPr>
          <a:xfrm>
            <a:off x="1447920" y="1219320"/>
            <a:ext cx="3863880" cy="541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pin_3"/>
          <p:cNvPicPr/>
          <p:nvPr/>
        </p:nvPicPr>
        <p:blipFill>
          <a:blip r:embed="rId2"/>
          <a:stretch/>
        </p:blipFill>
        <p:spPr>
          <a:xfrm>
            <a:off x="5334120" y="1371600"/>
            <a:ext cx="2706480" cy="2209680"/>
          </a:xfrm>
          <a:prstGeom prst="rect">
            <a:avLst/>
          </a:prstGeom>
          <a:ln w="0">
            <a:noFill/>
          </a:ln>
        </p:spPr>
      </p:pic>
      <p:pic>
        <p:nvPicPr>
          <p:cNvPr id="228" name="מלבן 5" descr=""/>
          <p:cNvPicPr/>
          <p:nvPr/>
        </p:nvPicPr>
        <p:blipFill>
          <a:blip r:embed="rId3"/>
          <a:stretch/>
        </p:blipFill>
        <p:spPr>
          <a:xfrm>
            <a:off x="401760" y="-19080"/>
            <a:ext cx="79740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shoulder[1]"/>
          <p:cNvPicPr/>
          <p:nvPr/>
        </p:nvPicPr>
        <p:blipFill>
          <a:blip r:embed="rId1"/>
          <a:stretch/>
        </p:blipFill>
        <p:spPr>
          <a:xfrm>
            <a:off x="3298680" y="1295280"/>
            <a:ext cx="3407040" cy="5504040"/>
          </a:xfrm>
          <a:prstGeom prst="rect">
            <a:avLst/>
          </a:prstGeom>
          <a:ln w="0">
            <a:noFill/>
          </a:ln>
        </p:spPr>
      </p:pic>
      <p:pic>
        <p:nvPicPr>
          <p:cNvPr id="230" name="מלבן 4" descr=""/>
          <p:cNvPicPr/>
          <p:nvPr/>
        </p:nvPicPr>
        <p:blipFill>
          <a:blip r:embed="rId2"/>
          <a:stretch/>
        </p:blipFill>
        <p:spPr>
          <a:xfrm>
            <a:off x="1170000" y="208080"/>
            <a:ext cx="6900840" cy="11030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2362320" y="4191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מבט מלפנים אל  כתף שמא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capula[1]"/>
          <p:cNvPicPr/>
          <p:nvPr/>
        </p:nvPicPr>
        <p:blipFill>
          <a:blip r:embed="rId1"/>
          <a:stretch/>
        </p:blipFill>
        <p:spPr>
          <a:xfrm>
            <a:off x="1600200" y="1687680"/>
            <a:ext cx="6324480" cy="4865400"/>
          </a:xfrm>
          <a:prstGeom prst="rect">
            <a:avLst/>
          </a:prstGeom>
          <a:ln w="0">
            <a:noFill/>
          </a:ln>
        </p:spPr>
      </p:pic>
      <p:pic>
        <p:nvPicPr>
          <p:cNvPr id="233" name="מלבן 4" descr=""/>
          <p:cNvPicPr/>
          <p:nvPr/>
        </p:nvPicPr>
        <p:blipFill>
          <a:blip r:embed="rId2"/>
          <a:stretch/>
        </p:blipFill>
        <p:spPr>
          <a:xfrm>
            <a:off x="1163520" y="438120"/>
            <a:ext cx="4127760" cy="10987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1143000" y="533412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שכמה ימנית מאחור, מלפנים ומהצ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V="1">
            <a:off x="2133720" y="365760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V="1">
            <a:off x="4343400" y="4952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humerus[1]"/>
          <p:cNvPicPr/>
          <p:nvPr/>
        </p:nvPicPr>
        <p:blipFill>
          <a:blip r:embed="rId1"/>
          <a:stretch/>
        </p:blipFill>
        <p:spPr>
          <a:xfrm>
            <a:off x="1981080" y="1082520"/>
            <a:ext cx="4376880" cy="5775480"/>
          </a:xfrm>
          <a:prstGeom prst="rect">
            <a:avLst/>
          </a:prstGeom>
          <a:ln w="0">
            <a:noFill/>
          </a:ln>
        </p:spPr>
      </p:pic>
      <p:pic>
        <p:nvPicPr>
          <p:cNvPr id="238" name="מלבן 4" descr=""/>
          <p:cNvPicPr/>
          <p:nvPr/>
        </p:nvPicPr>
        <p:blipFill>
          <a:blip r:embed="rId2"/>
          <a:stretch/>
        </p:blipFill>
        <p:spPr>
          <a:xfrm>
            <a:off x="2468520" y="55440"/>
            <a:ext cx="4329000" cy="11034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35812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שמא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ulna_radius[1]"/>
          <p:cNvPicPr/>
          <p:nvPr/>
        </p:nvPicPr>
        <p:blipFill>
          <a:blip r:embed="rId1"/>
          <a:stretch/>
        </p:blipFill>
        <p:spPr>
          <a:xfrm>
            <a:off x="1447920" y="446040"/>
            <a:ext cx="4419360" cy="6259680"/>
          </a:xfrm>
          <a:prstGeom prst="rect">
            <a:avLst/>
          </a:prstGeom>
          <a:ln w="0">
            <a:noFill/>
          </a:ln>
        </p:spPr>
      </p:pic>
      <p:pic>
        <p:nvPicPr>
          <p:cNvPr id="241" name="מלבן 4" descr=""/>
          <p:cNvPicPr/>
          <p:nvPr/>
        </p:nvPicPr>
        <p:blipFill>
          <a:blip r:embed="rId2"/>
          <a:stretch/>
        </p:blipFill>
        <p:spPr>
          <a:xfrm>
            <a:off x="5005440" y="208080"/>
            <a:ext cx="4151160" cy="19317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4114800" y="3809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עצמות אמה ימנית מלפנ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20:47:37Z</dcterms:created>
  <dc:creator>Yuval</dc:creator>
  <dc:description/>
  <dc:language>en-US</dc:language>
  <cp:lastModifiedBy>Cassuto</cp:lastModifiedBy>
  <dcterms:modified xsi:type="dcterms:W3CDTF">2011-12-05T20:56:49Z</dcterms:modified>
  <cp:revision>13</cp:revision>
  <dc:subject/>
  <dc:title>שקופית 1</dc:title>
</cp:coreProperties>
</file>